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5D61-54FE-441D-BEEC-28A307774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049F-C870-4D5A-B48D-F5FC69CBD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62DD-CCD4-454B-8993-68E37F086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0DE3-FD24-4B7D-A04D-2247A2840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E1B2-FDA1-4F8E-A3C3-416E5B1A4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1B50-0430-457A-B297-1FC4CF7EF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66EF-26E9-4A00-8E84-04FEC3CFC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D09-55EA-4AAE-8222-40795BF5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5092-BA37-44D4-A0F1-53E14315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9169-6A48-4A09-B230-5A21CFFD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D9A-BEEE-4732-A348-80F54D86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55D0-172A-4B99-8114-A7284B38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49C9-4206-46DA-8E2B-83BFFACB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FEB1-E76F-4FAE-8E2E-9F05CEBD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AD0A-1F67-4C65-BE62-99FB66ED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1048-81C3-4B2B-838F-C5BEB98C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31DC-4CB6-46D3-ACA8-C8A12040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2A79-9CC2-4A5E-B8D8-DCE68CE4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D89-92B1-403A-9B77-0AE15913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7887-1FA0-4D71-B332-7227B85C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54EC-AFEB-4B97-BF7F-2A9188F8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1901-4AA7-468F-A29B-F816B335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7F5D-8773-4828-96F3-86A56E0E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E53D-F691-48EE-8331-1C5E227B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7F39A-2181-439A-90AD-E3D3DF3D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95EAE-6073-4DDC-9099-715997B4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19E6A-338E-4647-97CF-73106120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9AE0B-7162-4035-A950-DAAFA43D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5406B-0D80-489E-8EF1-ED894561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33B-7C30-45AD-93DD-96B9EB8E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94BD9-4F92-42DF-89A2-42FDC6BA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AB572-C752-46C8-92C4-5E742205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7E907-E383-4875-A465-4F8A79B8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C2E35-F0F2-43ED-80E5-52C18FB9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D831E-7A8A-4088-8DC4-52BA3D16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B08A-75BC-4A0F-9D6A-AED8049F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C3660-C571-4A8A-B14D-DFA654C7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C0C58C-6B9C-48CE-A008-38E6F5D1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22EB22-3DFA-41C4-88A4-7CCCF009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D4F114-BC31-4C46-BAC3-196B2253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CB9-9213-434F-BEB7-15DB4B0A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7CFB85-A23E-4071-B493-93E7B218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D21194-0ACA-4B83-96FC-D9858DCE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CE958B-53AE-4E1C-89D5-CD724C58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D7CE2B-45EA-4FE3-8DD4-5078F74E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1ADF95-F722-4D76-A341-F2AE6B1E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2CE17B-2C37-45F7-AD0F-C7526EFC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BB40B8-A353-4B12-B8CC-824C8ACC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B7A82C-D71A-4BBF-9071-A3027F1F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8F5BF1-7EB3-46FF-8CA0-67931287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80630-C0E8-43E2-9060-0AF25966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1547-9E47-49BD-B57E-D3571578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ED841-317F-4737-B3EE-C6DBC6C6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DCECE-3D46-4F81-866D-51FB098A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D0427-A8E1-4750-9196-6645F4CE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A7B9F-5A6A-490C-866A-A09BBBFF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B76F0-7E26-454E-8B7B-5F61BA45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A4C80-A2D5-4C8D-8E6D-FC5C1EE9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85E23-16BF-4410-9746-76DC1440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05B2B-ADEA-4A53-A0E5-8854BF71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F04AF-5898-496E-AF79-D086D56E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6A3D4-186C-4B7E-A951-1EAB15DE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2F0-70F9-4EE4-B08F-336C58A2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5A489-300A-4823-8DBA-7A69D406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BBA34A-3E9F-4C52-B941-06E4F85E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423356-ED4E-4B9C-98AE-1D3EF0F1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A6611C-A15B-4C5F-BBA2-F2300219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4FE0A1-6D51-4FE7-A6FE-C4A20927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21935F-A2DA-442A-A92D-17E7AC9C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6A88C7-C0BE-4AE3-84A9-FBF9905F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CDFB3B-E5E0-49B4-8E58-AB2BDD81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D50E8C-4C91-48B3-BE76-0BAD3E62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DC7DD-800A-4109-9F75-6CAACF2A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37E0-D9C1-409F-B854-1C08B11F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EE96A7-4856-405A-8720-5E322F2B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7F3A95-8FDB-42BA-835B-73F37720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DDE65B-61CE-4B50-A6E9-B6233253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CD9F92-F4D4-4348-B355-AD01DF11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94847E-D7D4-4FB4-BDA4-BE23272D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09E9EC-4FB2-4EB2-AC85-5810B658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2915F-2F3A-4DCC-89AB-41D83E72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3A13B6-4482-4B74-A025-AB00118B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4E11F3-551A-4A25-A415-F94143D9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9CD8A1-7CE8-4356-84DC-000DF772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C05-2F7B-466A-9983-2D31B197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6EDE17-6616-42A4-8B0F-05C2BFEC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F3EB93-263F-4868-B7CE-4150FAE7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92A3E4-8880-4675-A3DD-B4AE0021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BA6AF4-BCFC-475B-BC49-D93C3C50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A8235C-7AF6-4827-BC1F-D5B15DB4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1CB642-9B1F-48B9-A99C-6AD9D8F4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5EAA0C-686B-4119-B372-42E1D269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352B7A-C5D1-46AE-9BA0-7EF579E2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B95AB6-C29C-4F4B-9CA4-D6B6C316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B959B6-8375-4EBD-8791-D71072C9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A0C-D24F-4FE3-A917-2A78ADA7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BC3281-516C-4D03-81D0-C20F60FE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B513A6-22CC-49B1-BE8A-1EACE20F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AFD713-013F-4805-B7BC-E2634B17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D68D7E-CF3A-4E1C-B4C4-0833477B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C98336-E9FD-4364-B80C-FAEE7233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0B9CB4-35DC-4925-9DF9-454F655C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747AA1-904B-4C24-81B2-E0F325BD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4CC6-5F08-4DD8-99C1-45932685D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F735-A0B6-4B92-8A27-E6D02D84ECF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E010-AE6F-4CAB-A84A-4AF850C5C7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E0F6-3DFF-4274-9E5E-2A3E1C1B965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6402-F772-4A50-832E-FF342B13230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22B6-70FD-4C1B-9B0C-59770BA980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6C0A-C1FD-4573-BC9F-2F5D5F8CC20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9594-E7A6-4AFA-85C6-BEBFDED5C3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NIOR 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oots List # 16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MI- (HEMI-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alf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miannu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micirc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mipreciou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milun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mifin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6" descr="UV8CA0F6Y5PCAVEHWW5CAKIZV1UCAP2TKU8CANMO154CAUGC2Y5CA4ZSVIYCAANY3J2CAV0KFEICAV7ARPCCA017PU6CA5B4CR4CAITV4DYCAO4NI6ACAI6GABRCAYGU0RICADQQU3NCAU9BU9RCA0EN731"/>
          <p:cNvPicPr/>
          <p:nvPr/>
        </p:nvPicPr>
        <p:blipFill>
          <a:blip r:embed="rId1"/>
          <a:stretch/>
        </p:blipFill>
        <p:spPr>
          <a:xfrm>
            <a:off x="2666880" y="2590920"/>
            <a:ext cx="1743120" cy="17524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FV4CA1J6532CAQK8CVICAYS85YFCA8NHSQNCAEYLD7BCA1VVTI8CAIRN3WCCA4CBWTUCA93QKTNCAIFDB8VCARPRLL4CAFR706XCASGR7H9CAE92W9ZCA3MZ8D5CADGV586CAB8FEOVCA07H43FCA6POYGR"/>
          <p:cNvPicPr/>
          <p:nvPr/>
        </p:nvPicPr>
        <p:blipFill>
          <a:blip r:embed="rId2"/>
          <a:stretch/>
        </p:blipFill>
        <p:spPr>
          <a:xfrm>
            <a:off x="380880" y="4114800"/>
            <a:ext cx="2286000" cy="2095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semiprecious.jpg"/>
          <p:cNvPicPr/>
          <p:nvPr/>
        </p:nvPicPr>
        <p:blipFill>
          <a:blip r:embed="rId3"/>
          <a:stretch/>
        </p:blipFill>
        <p:spPr>
          <a:xfrm>
            <a:off x="5638680" y="4419720"/>
            <a:ext cx="312444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PT, SEPTEM, SEPTI, SEPT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28240" y="1295280"/>
            <a:ext cx="38149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ve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seventh pa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ven tim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962520" y="1295280"/>
            <a:ext cx="38145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ptilater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pt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ptill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ptupl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ptemb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month in Julian, Julius Caesar, Calendar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0" name="Picture 6" descr="U3TCAIJVQUECAVEVTSFCAZZDFQTCA00R11CCAKN1KCYCAN9YF07CANVNJB1CABQIMJGCAIKSYATCA8QYW4RCAJ8VIBOCAG758XPCAT2X12WCA5OYUX1CABLQQGBCAM3O3HRCAG87TCGCAZYSD09CARFHO6I"/>
          <p:cNvPicPr/>
          <p:nvPr/>
        </p:nvPicPr>
        <p:blipFill>
          <a:blip r:embed="rId1"/>
          <a:stretch/>
        </p:blipFill>
        <p:spPr>
          <a:xfrm>
            <a:off x="7391520" y="5029200"/>
            <a:ext cx="1752480" cy="1828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1" descr="septuplett.jpg"/>
          <p:cNvPicPr/>
          <p:nvPr/>
        </p:nvPicPr>
        <p:blipFill>
          <a:blip r:embed="rId2"/>
          <a:stretch/>
        </p:blipFill>
        <p:spPr>
          <a:xfrm>
            <a:off x="3429000" y="4876920"/>
            <a:ext cx="2666880" cy="1981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2" descr="septuplettt.jpg"/>
          <p:cNvPicPr/>
          <p:nvPr/>
        </p:nvPicPr>
        <p:blipFill>
          <a:blip r:embed="rId3"/>
          <a:stretch/>
        </p:blipFill>
        <p:spPr>
          <a:xfrm>
            <a:off x="304920" y="3200400"/>
            <a:ext cx="2819160" cy="21337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3" descr="septupletttt.jpg"/>
          <p:cNvPicPr/>
          <p:nvPr/>
        </p:nvPicPr>
        <p:blipFill>
          <a:blip r:embed="rId4"/>
          <a:stretch/>
        </p:blipFill>
        <p:spPr>
          <a:xfrm>
            <a:off x="7238880" y="1828800"/>
            <a:ext cx="1581120" cy="1981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4" descr="septep.jpg"/>
          <p:cNvPicPr/>
          <p:nvPr/>
        </p:nvPicPr>
        <p:blipFill>
          <a:blip r:embed="rId5"/>
          <a:stretch/>
        </p:blipFill>
        <p:spPr>
          <a:xfrm>
            <a:off x="6934320" y="0"/>
            <a:ext cx="220968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X, SEXT, SEXT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51920" y="1447560"/>
            <a:ext cx="297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ix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sixth pa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ix tim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xangul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xtant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n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that which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xtill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extupl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8" name="Picture 5" descr="GRCCAVACVLLCARAQ2V2CAUY1AF6CAHLAJNDCA853PXRCAJJHOGNCASGPZWKCA7LWC8QCACY26ESCA1K9ZAVCARDH7KYCAEWP5ECCAKOY65FCAX3CWF8CACJ2BLSCA31BD0ECA9FA3UZCA6RTOJQCA7OLOMJ"/>
          <p:cNvPicPr/>
          <p:nvPr/>
        </p:nvPicPr>
        <p:blipFill>
          <a:blip r:embed="rId1"/>
          <a:stretch/>
        </p:blipFill>
        <p:spPr>
          <a:xfrm>
            <a:off x="6553080" y="228600"/>
            <a:ext cx="2133720" cy="17524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IN1CA119LK5CABWTWA7CARQR547CAJBWJBBCAUOCAGKCALEH4K7CAQ789FDCAI187JWCABFFUCRCAE12XW4CAK83CBGCAVNDX5BCABWV4Z1CAUPIX3PCATY2S50CA01SHGXCAF8OBHPCACS2B4ZCAFY8T9K"/>
          <p:cNvPicPr/>
          <p:nvPr/>
        </p:nvPicPr>
        <p:blipFill>
          <a:blip r:embed="rId2"/>
          <a:stretch/>
        </p:blipFill>
        <p:spPr>
          <a:xfrm>
            <a:off x="6324480" y="4114800"/>
            <a:ext cx="2438640" cy="23623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JRUCANW3WFQCA5JF3MSCAJGRFNJCABS3AVMCAGIU3I5CAI23NAPCA4BNUU2CA9LPW31CAPJG6U7CAPM81ASCAF4AK06CAZND8EWCAQI5J0BCANEGMCCCAZRYB4SCA1UMY8QCAH256EXCAM6930SCAGZEIYH"/>
          <p:cNvPicPr/>
          <p:nvPr/>
        </p:nvPicPr>
        <p:blipFill>
          <a:blip r:embed="rId3"/>
          <a:stretch/>
        </p:blipFill>
        <p:spPr>
          <a:xfrm>
            <a:off x="2743200" y="419112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9" descr="TKXCADOF7HJCAQU1POPCAOFJ8D4CAP3H83XCAKUDGJTCAS8SSCRCAAOWV6OCASAXC56CAIMJU5GCAM0SC52CA1KXKZVCAGR2BOOCALLYF7VCAX9QTSVCA1BHFD1CAGDZMSKCAW4D4YJCAMPK65HCAJNO1R7"/>
          <p:cNvPicPr/>
          <p:nvPr/>
        </p:nvPicPr>
        <p:blipFill>
          <a:blip r:embed="rId4"/>
          <a:stretch/>
        </p:blipFill>
        <p:spPr>
          <a:xfrm>
            <a:off x="3048120" y="1981080"/>
            <a:ext cx="1590480" cy="12477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0" descr="YFICASJZRUUCAWP1CUGCAHLSJ5JCAESPRSBCAPGPHGPCA5LGZE8CABWDY67CANTDR4GCA9W20NBCAOT0CJ3CA08R0KFCAFG0W8TCAXO67F0CAMG51OCCAB8IC7CCAKPK4C1CAAN67PSCAD5LIA0CA8CQ7B8"/>
          <p:cNvPicPr/>
          <p:nvPr/>
        </p:nvPicPr>
        <p:blipFill>
          <a:blip r:embed="rId5"/>
          <a:stretch/>
        </p:blipFill>
        <p:spPr>
          <a:xfrm>
            <a:off x="4343400" y="0"/>
            <a:ext cx="1523880" cy="19051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MROCARVXH51CAO01TPICA3MAT3XCA34H2HQCAQDSWXDCA48F902CA17U8RICA8XOPOTCAACPOCWCAWJ3423CAQ4S28UCAOM6CWZCA3GVESECAN9W8JDCAFS5WGNCAULCO2YCA52G1U7CA0LQ4AHCA9LBY8T"/>
          <p:cNvPicPr/>
          <p:nvPr/>
        </p:nvPicPr>
        <p:blipFill>
          <a:blip r:embed="rId6"/>
          <a:stretch/>
        </p:blipFill>
        <p:spPr>
          <a:xfrm>
            <a:off x="0" y="3809880"/>
            <a:ext cx="2286000" cy="17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0520" y="167616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oun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onic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ubsonic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ub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under; below; in place of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upersonic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super-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over; abov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ransonic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ran-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cross; beyond; through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onogra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Unis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onorous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ous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full of; having the quality of; like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Picture 5" descr="0VICAAT1I3ECAKMSUR5CA6TIODDCAO0NB4JCANW6FWHCA4RV3LQCA0EL0WFCAEMC5GNCA5X8Y7ECADRAMRECA3G9QIMCA6Z8FS2CA3VIWQ0CA65MQG0CAUTGKURCAOK23V2CAVUPSYXCAIE2NTICA7IC0SA"/>
          <p:cNvPicPr/>
          <p:nvPr/>
        </p:nvPicPr>
        <p:blipFill>
          <a:blip r:embed="rId1"/>
          <a:stretch/>
        </p:blipFill>
        <p:spPr>
          <a:xfrm>
            <a:off x="2362320" y="4648320"/>
            <a:ext cx="1933560" cy="1828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AS3CAEP2OBKCAPG54K2CA0A807ECA3X0OKUCABH7KX8CAEKECHICATNFMUGCAW4UX15CA189EWLCALCF4T9CA8RUU57CAY3C9SICAC8AMJGCAZIQ6BVCA7XXL1ACAGGJN7WCA3HMKN7CAOPZKFGCAI1TQKY"/>
          <p:cNvPicPr/>
          <p:nvPr/>
        </p:nvPicPr>
        <p:blipFill>
          <a:blip r:embed="rId2"/>
          <a:stretch/>
        </p:blipFill>
        <p:spPr>
          <a:xfrm>
            <a:off x="1143000" y="2514600"/>
            <a:ext cx="2114640" cy="1523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YB7CASWABLZCAWSDLJGCASGPS1FCAMR0P90CAE7CKJ8CALKOTINCAH33UHZCAHE7POCCA6B35FCCA3181FGCAVRMDMPCAD7H56FCA99GXZ9CAYGJOSPCA28NTX3CA0W0GUDCAX9DKYDCAT8ZB7ZCAOOXCMI"/>
          <p:cNvPicPr/>
          <p:nvPr/>
        </p:nvPicPr>
        <p:blipFill>
          <a:blip r:embed="rId3"/>
          <a:stretch/>
        </p:blipFill>
        <p:spPr>
          <a:xfrm>
            <a:off x="6781680" y="0"/>
            <a:ext cx="2114640" cy="1523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8EZCAP5G2R8CAIO6TSHCAW11ADPCAFMI4K7CAEGMYW5CAXJG29ECAFTRTW4CADMZ5SNCA12BDYACALMJBIRCA3G0AOQCAEDQ4TTCAYT73UKCA6NNB6PCA9N6KHNCACVJVFTCACG4RX9CAAKGCQBCAQ79BU2"/>
          <p:cNvPicPr/>
          <p:nvPr/>
        </p:nvPicPr>
        <p:blipFill>
          <a:blip r:embed="rId4"/>
          <a:stretch/>
        </p:blipFill>
        <p:spPr>
          <a:xfrm>
            <a:off x="0" y="4495680"/>
            <a:ext cx="2081160" cy="14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PIR, SPIRE, PIR, PIR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28600" y="1600200"/>
            <a:ext cx="3276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o breath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reat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espira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onspir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nspir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erspir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ranspire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ra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across; beyond; through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pir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xpira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spir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4" name="Picture 5" descr="A1BCAFILN44CAX1D76KCAGZNPD2CACXXNQKCAQ328PCCASRGKJGCAQ9V3AICA460ABICAWM3BAWCAU8XU4FCA8CSMGGCAJZGJM4CA7HCJHACA29YR5YCAI8TIR4CAFY4259CAS7NROACAUEBHTJCAB0WLBR"/>
          <p:cNvPicPr/>
          <p:nvPr/>
        </p:nvPicPr>
        <p:blipFill>
          <a:blip r:embed="rId1"/>
          <a:stretch/>
        </p:blipFill>
        <p:spPr>
          <a:xfrm>
            <a:off x="2819520" y="4648320"/>
            <a:ext cx="2057400" cy="14475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D05CA1TIDSNCAQZ009HCAT7CIWVCAOVN8DMCA0SC8MDCAPQAPXFCA8N76TYCA8T3D7PCAVNKR32CAZT4RGECATJDUYFCAXBRGGUCAXS4S07CAUTD1YLCAI1SVC1CAO5SMY1CABD983BCAFVBDQ6CA1FYY94"/>
          <p:cNvPicPr/>
          <p:nvPr/>
        </p:nvPicPr>
        <p:blipFill>
          <a:blip r:embed="rId2"/>
          <a:stretch/>
        </p:blipFill>
        <p:spPr>
          <a:xfrm>
            <a:off x="7439040" y="0"/>
            <a:ext cx="1704960" cy="21337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UTNCA05983DCAJT2NXJCA52VQJ3CAWOITTZCAVVJ5VACASR20BLCA1KWHH9CA58L5VNCAJKCOWNCAG6TJK1CAOOEMIQCAGNQ34CCAO1ET40CA02EJXZCAS3X70FCA3TMLBMCANJPO11CAIWAL4VCAEJV7GS"/>
          <p:cNvPicPr/>
          <p:nvPr/>
        </p:nvPicPr>
        <p:blipFill>
          <a:blip r:embed="rId3"/>
          <a:stretch/>
        </p:blipFill>
        <p:spPr>
          <a:xfrm>
            <a:off x="152280" y="2971800"/>
            <a:ext cx="2438640" cy="15238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JA2CALX0SDZCA6HL1XXCA2N8SSICASXUQ7DCALGWZIPCAHPY6TGCACFESK4CAY1A9YDCACMVLEQCA2XRAI8CABF9DN9CARSNLWICAP5A2DMCA0KDDEBCAY9FGOVCAPYAVWFCA1ST774CA4DPGY0CA7E2J9P"/>
          <p:cNvPicPr/>
          <p:nvPr/>
        </p:nvPicPr>
        <p:blipFill>
          <a:blip r:embed="rId4"/>
          <a:stretch/>
        </p:blipFill>
        <p:spPr>
          <a:xfrm>
            <a:off x="380880" y="4952880"/>
            <a:ext cx="1943280" cy="14479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9" descr="VU5CA9QV1H7CABAO7IPCA22E3MHCAKHQ78ACACN7YN5CAJTADIGCACTVAGJCABTCRAPCA9231CICAAX85QKCA2NJYUMCAT15VJ7CA97687GCAS3V8OTCAPU9MNXCAJXUXT6CABFOQMUCATJUJU8CAA2HGZA"/>
          <p:cNvPicPr/>
          <p:nvPr/>
        </p:nvPicPr>
        <p:blipFill>
          <a:blip r:embed="rId5"/>
          <a:stretch/>
        </p:blipFill>
        <p:spPr>
          <a:xfrm>
            <a:off x="7210440" y="4952880"/>
            <a:ext cx="193356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4-30T15:54:01Z</dcterms:modified>
  <cp:revision>27</cp:revision>
  <dc:subject/>
  <dc:title>Roots List #1</dc:title>
</cp:coreProperties>
</file>